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4125-652A-427E-8AD0-2BBD5AA17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notes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29D0-06BA-4666-8DF7-7EA08723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A99-1127-48A2-87C2-B770728D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FF4-C99F-415A-8D30-C3D33FEB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2E4-BCCD-4F73-A56D-1A84E21B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2FA-3927-486A-BEAB-6EF37E6B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ABB9-C60B-46BD-BE00-491E79B4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E4C-7182-40DA-90F2-104599EB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2A9-5DD0-4D4D-942C-7E4E758C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8EAE-67F6-4E7E-88DC-56C85ACF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F19-DF05-430F-AC2A-89EA0504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6AB-586E-4D75-86AA-5E4F90CC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46BE-EBAD-45A4-84AD-329FBAED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830C-06C3-4D01-ABF5-ADC7C8E6D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23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9.xml"/><Relationship Id="rId11" Type="http://schemas.openxmlformats.org/officeDocument/2006/relationships/slide" Target="slide21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Nutrition and Fitne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vitam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20574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nutrient is made of fatty acids, and provides energy to the bod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f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75248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burn calories that are stored as fat, what type of exercise do you need to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erobic 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1600200"/>
            <a:ext cx="7086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type of resistance training involves resistance through an entire range of mo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sokinetic 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259092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activity combines muscle contraction with repeated 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sotonic 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does F.I.T me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2286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tr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14479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2286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2286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2286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2860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r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2438280"/>
            <a:ext cx="16761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2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3505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4648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4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571500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144792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6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14479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7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14479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67480" y="14479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243828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350532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464832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57150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1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2438280"/>
            <a:ext cx="16765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35053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6483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571500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2438280"/>
            <a:ext cx="16761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67480" y="2438280"/>
            <a:ext cx="16765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3505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35053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648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46483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571500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571500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2133720"/>
            <a:ext cx="75438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 frequ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 int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228600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activity uses muscle tension to improve muscular strength with little or no movement of the bod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sometric 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175248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eating disorder involves self-starvation combined with extensive exerci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nor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2120" y="220968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eating disorder involves binge eating followed by vomiting or laxative u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14400" y="2362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Buli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080" y="28195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does healthy dieting do to your metabolis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28195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ncreases your meta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25146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calories relate to gaining or losing weigh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is the most vital nutr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14400" y="30481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xtra calories would be stored as f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27432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should you do to control your weight in a healthy w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30481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ower the set-point and raise you metabolis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213372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wer metabolism makes it harder to gain weight and easier to lose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38080" y="243828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. Lower metabolism makes it easier to gain weight and harder to gain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27432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don’t use calories they will be stored as f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14400" y="2666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27432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ercising does not raise your metabolis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14400" y="28195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. Exercising does raise your metabolis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259092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highest level of the old food pyramid contains the foods you should eat most oft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38080" y="243828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. The highest level of the old food pyramid contains the food you should eat sparingl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00280" y="30481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gular aerobic exercise can raise you set 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38080" y="25146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is the ability to move a body part through a full range of mo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Flex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00280" y="30481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is the amount of force a muscle can exe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uscular Str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4400" y="205740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is the ability to carry out daily tasks easily and have enough energy to respond to unexpected deman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Physical Fit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167652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is the ability of the muscles to do difficult physical tasks over a period of time without causing fatigu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00280" y="30481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is the main source of energy for the bod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uscular Endu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167652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is the ratio of body fat to lean body tissue, including muscle, bone, water, and connective tissue such as ligament, cartilage and tend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Body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00280" y="30481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ese are made of amino acids which build body t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236232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nutrient does not provide energy, but is essential for grow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06:15:24Z</dcterms:created>
  <dc:creator>anyone</dc:creator>
  <dc:description/>
  <dc:language>en-US</dc:language>
  <cp:lastModifiedBy>Clarkson</cp:lastModifiedBy>
  <dcterms:modified xsi:type="dcterms:W3CDTF">2007-12-31T06:36:43Z</dcterms:modified>
  <cp:revision>27</cp:revision>
  <dc:subject/>
  <dc:title>Welcome to Jeopardy!</dc:title>
</cp:coreProperties>
</file>